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E213-D35E-42D4-8723-F843E2BE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463-F33A-4301-895A-F41ECCE5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2DE-B1FE-45A7-8AFE-52084D69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9B9F-C0DB-43B2-A735-6E90A761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C557-4D9B-47B1-B235-8D48F3F8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26F1-8651-4D81-80BB-766A755C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161E-5C2B-4433-A27E-DA8C2918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3373-946E-4D16-A06F-CBCB5D27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694C-0E21-4102-9A2D-1B1F3F46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1672-84FE-44B4-940A-A513945F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9FC4-F2B4-47A2-971F-2D3CBF03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9FA-F791-4537-BBE9-83220224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A47C-63A8-4B7A-BFA3-D07A6980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F0B7-FD51-4526-98A7-A4EBC300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7643-E599-42B7-BC0F-42C99526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A94A-E277-4522-AE6C-C45950F0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DA8D-3DB9-4CF7-98B9-A19BA2BF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AC13-730A-4369-8049-EFB0AE68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A9E-02AD-4BA4-8C48-E6DC44A4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A22-224F-4850-BFA3-68D379A8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4075-624B-4200-9C24-A4FEE317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609-61C2-4324-A9E7-88377B3A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604-6419-45E3-8329-C7DB0759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652C-EDB6-4EB8-A360-1043941C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ACBC-87DA-4740-A4CE-0F259ED394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EEB6-43C7-4D45-9407-F496499253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428760"/>
            <a:ext cx="78930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ПАРТАМЕНТ ПО ФИЗИЧЕСКОЙ КУЛЬТУР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 СПОРТУ КРАСНОДАРСКОГО КРАЯ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 ФЕДЕРАЦИЯ ЛЕГКОЙ АТЛЕТИКИ КРАСНОДАРСКОГО КРА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2857680"/>
            <a:ext cx="7057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바탕"/>
              </a:rPr>
              <a:t>ЧЕМПИОНАТ И ПЕРВЕНСТВО ЮЖНОГО ФЕДЕРАЛЬНОГО ОКРУГА ПО ЛЕГКОЙ АТЛЕТИКЕ СРЕДИ  МУЖЧИН И ЖЕНЩИН (1987г.р. и старше), ЮНИОРОВ (1991-92 гг.р.), ЮНОШЕЙ И ДЕВУШЕК (1993-94гг.р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6-07.06.2010 г.                           г. Краснодар ст. «Кубань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. «Динамо»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75438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0066"/>
                </a:solidFill>
                <a:latin typeface="바탕"/>
              </a:rPr>
              <a:t>ЧЕМПИОНАТ И ПЕРВЕНСТВО ЮЖНОГО ФЕДЕРАЛЬНОГО ОКРУГА ПО ЛЕГКОЙ АТЛЕТИКЕ СРЕДИ  МУЖЧИН И ЖЕНЩИН (1987г.р. и старше), ЮНИОРОВ (1991-92 гг.р.), ЮНОШЕЙ И ДЕВУШЕК (1993-94гг.р.)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719360"/>
          <a:ext cx="7499520" cy="4541760"/>
        </p:xfrm>
        <a:graphic>
          <a:graphicData uri="http://schemas.openxmlformats.org/drawingml/2006/table">
            <a:tbl>
              <a:tblPr/>
              <a:tblGrid>
                <a:gridCol w="4329000"/>
                <a:gridCol w="1730520"/>
                <a:gridCol w="144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делег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Ф.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й делег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Иск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Б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Ф.Максим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Е. Мис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кадрам и 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Ф.Бой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информации и награж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Ф. Пеш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А.Ю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А.Ив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вертикальным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.Я. Викто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горизонтальным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Лыт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Ро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ая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Г. Лебед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 Тужиков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Admin</cp:lastModifiedBy>
  <dcterms:modified xsi:type="dcterms:W3CDTF">2010-06-08T08:28:48Z</dcterms:modified>
  <cp:revision>19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